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38C-9715-495E-A1F8-6C166CA2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FF3-1199-4D26-80AD-B6B6D3CB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C51-342E-4CC7-A327-B6EEBB25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BFC-5C9E-4C55-858E-6C0C63E8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B48-BEC8-4A2A-BCFE-51CEEE4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E2B-A714-4406-823C-D265045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5DF-084D-45D0-ADE9-E09699E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2FA-77C5-45E7-833F-6158600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F6C-9A31-42E0-8197-59B4D0B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496-1C50-47AF-B974-99A6784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B69-5F18-4AA2-AFE8-DDB2CAD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ED1-BD99-436C-B5DE-3BB6896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9977-7372-4A3D-A04F-8EFC8677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xtranormal.com/" TargetMode="External"/><Relationship Id="rId2" Type="http://schemas.openxmlformats.org/officeDocument/2006/relationships/hyperlink" Target="http://www.xtranormal.com/" TargetMode="External"/><Relationship Id="rId3" Type="http://schemas.openxmlformats.org/officeDocument/2006/relationships/hyperlink" Target="http://www.xtranormal.com/" TargetMode="External"/><Relationship Id="rId4" Type="http://schemas.openxmlformats.org/officeDocument/2006/relationships/hyperlink" Target="http://www.xtranormal.com/watch?e=200908161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-D57_p9WgSw&amp;feature=related" TargetMode="External"/><Relationship Id="rId3" Type="http://schemas.openxmlformats.org/officeDocument/2006/relationships/hyperlink" Target="http://www.bethlehempubliclibrary.org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taggalaxy.de/" TargetMode="External"/><Relationship Id="rId3" Type="http://schemas.openxmlformats.org/officeDocument/2006/relationships/hyperlink" Target="http://taggalaxy.de/" TargetMode="External"/><Relationship Id="rId4" Type="http://schemas.openxmlformats.org/officeDocument/2006/relationships/hyperlink" Target="http://taggalaxy.de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ommunity.scholastic.com/scholastic/board?board.id=flashlightreaders_hugocabre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Reluctant Readers &amp; Writers With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/Language Resource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MS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h Dou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a Grimes-Picaraz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Sh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review of material, end of uni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at least two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 pertinent information, type of game to use (Jeopardy or Millionaire for example), question format, visuals, sound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grammar counts/ language use, creativity, practice using power point, review of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rterly Class Newsletter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Eagle Sc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writing and publishing a news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parents (mailed h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from brainstorming to final draft and 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write about what  you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students practice writing in different genres (editorials, advice, horoscopes, car reviews, short stories, book reviews, po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Writing Opportunities</a:t>
            </a:r>
            <a:br>
              <a:rPr sz="44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xtranormal.com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writing dialogue, curriculum linked writing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elf, peers, teachers, internet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from brainstorming to final draft and 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choose a character from a book and tell story from his/her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students practice writing from alternate point of view, create visual to solidify knowledge of events or story line, opportunity to share work,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1752480"/>
            <a:ext cx="3295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0"/>
            <a:ext cx="674820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ve or die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le.net to create a “word cloud” of selected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to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and tell …. What’s working for you in your class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Solutions to Motivate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questions do 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you like to 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to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ranorma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Point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to Speech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drive @ public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 Gala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hy are they “reluctant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bility – in need of assistance,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interested – in need of motivation, increas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1152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 Supporting and Assisting Students with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ouds, recorded books, text to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l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outub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lack Du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libr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dle, Text to speech software, Natural Reader, Read and Write Gold, BookShare, Test 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 Supporting and Assisting Students with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supports – movies, trailers, puppets (real or virtu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knowledg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de Talk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vaho)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ggalaxy.d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362320" y="0"/>
            <a:ext cx="461952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Reluctant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heir interest by us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 – collaboration with other students outside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ing special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s, blogs, forums, e-mail,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 book reviews, scholastic.com boo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iscu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Ess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purpose for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work through process from draft to finished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taped “news segments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– information,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 of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 from draft to final product over 3 sessions, once per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 (within boundaries) of topic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 – practice using vocabulary mapped in previous classes, multiple opportunities to practice reading fluency, and practice using “good speech”, posture, enunciation, projec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on of the Technology Guide for Senior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–education of Senior Citizens by exper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ence – family members,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process from draft to final product over 3 sessions, once per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choice (within boundaries) of topic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benefits – research, students as teachers, writing with emphasis on clarity and mecha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Stor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a digital form of book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tudents trying to find a good book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 from draft to final product- 2 sessions (used a graphic organiz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 of opinion, pictures,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visualization, reading fluency, review of liter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3:56:29Z</dcterms:created>
  <dc:creator> </dc:creator>
  <dc:description/>
  <dc:language>en-US</dc:language>
  <cp:lastModifiedBy>bcsduser</cp:lastModifiedBy>
  <dcterms:modified xsi:type="dcterms:W3CDTF">2009-10-19T16:05:36Z</dcterms:modified>
  <cp:revision>40</cp:revision>
  <dc:subject/>
  <dc:title>Motivating Reluctant Writers With Technology</dc:title>
</cp:coreProperties>
</file>